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7B1-7712-457B-BF24-26CE6FB0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6D3-A105-4248-9F8E-171BF88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7D2-B869-4928-B75B-93916A2B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859-1E79-4E24-9C6E-FD09238D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AF24-C3C9-4727-A681-9A6F53E8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5F66-E264-4479-B16E-81C15C4A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304-6670-415A-9C0B-D5A165C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22A-EADF-42FE-AE37-C7C07BCB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8BD-E71A-48B7-A333-0B1E4C44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0DC8-3172-438F-9949-C5F751A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E93A-1887-427D-84D2-40AA09BA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686-95EC-4B94-85D1-6CFC9A1D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1926-E45A-460B-AE4F-A6FCE5E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1553-F523-48FB-A2ED-714BBA8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B225-4097-40F5-AD29-48DC87E1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26B7-F3B1-4779-9A75-1E4CF1C1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CD6E-D3FB-44AA-A985-26C50DB5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6B7-2485-490B-8D66-599AB7F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ABA-447D-4F5B-82B7-2A6A0E6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260-F816-486C-B8F0-CF0DA343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E5C-0920-4180-BF7F-4BE883EB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652-5CDD-4142-81AD-886120A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BBC-2B76-42DB-B5E7-228E142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47B-1AC6-4453-9E52-46C6938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32F4-9F20-48B4-A4A2-37222A4CEE9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E7B0-7191-4A9D-9DB1-A5D49FCF6F9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base.com/kstuebin/image/19139674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base.com/kstuebin/image/16993237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Appalachia: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inguistic Traits &amp; Characteri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Footbri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733920"/>
            <a:ext cx="198108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Back Ro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74320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The Appalachian Mountains, Brasstown Bald, Georgia"/>
          <p:cNvPicPr/>
          <p:nvPr/>
        </p:nvPicPr>
        <p:blipFill>
          <a:blip r:embed="rId5"/>
          <a:stretch/>
        </p:blipFill>
        <p:spPr>
          <a:xfrm>
            <a:off x="838080" y="304920"/>
            <a:ext cx="7467840" cy="220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:  word structure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ur = 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= our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rectly = dreck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on’t care to (positive mea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  <p:sndAc>
      <p:stSnd>
        <p:snd r:embed="rId1" name="chimes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Appalachian Region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thern highland region of the 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mpasses all of  WV, follows east of Blue Ridge, NC in a SW direction into GA and turns to include AL, TN, and 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8320" y="1617840"/>
            <a:ext cx="4037760" cy="4494960"/>
            <a:chOff x="4648320" y="1617840"/>
            <a:chExt cx="4037760" cy="4494960"/>
          </a:xfrm>
        </p:grpSpPr>
        <p:cxnSp>
          <p:nvCxnSpPr>
            <p:cNvPr id="122" name="_s15421"/>
            <p:cNvCxnSpPr>
              <a:stCxn id="123" idx="1"/>
              <a:endCxn id="124" idx="2"/>
            </p:cNvCxnSpPr>
            <p:nvPr/>
          </p:nvCxnSpPr>
          <p:spPr>
            <a:xfrm rot="10800000">
              <a:off x="5859000" y="2434320"/>
              <a:ext cx="404280" cy="326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5420"/>
            <p:cNvCxnSpPr>
              <a:stCxn id="126" idx="1"/>
              <a:endCxn id="124" idx="2"/>
            </p:cNvCxnSpPr>
            <p:nvPr/>
          </p:nvCxnSpPr>
          <p:spPr>
            <a:xfrm rot="10800000">
              <a:off x="5859000" y="2434320"/>
              <a:ext cx="404280" cy="2044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5419"/>
            <p:cNvCxnSpPr>
              <a:stCxn id="128" idx="1"/>
              <a:endCxn id="124" idx="2"/>
            </p:cNvCxnSpPr>
            <p:nvPr/>
          </p:nvCxnSpPr>
          <p:spPr>
            <a:xfrm rot="10800000">
              <a:off x="5859000" y="2434320"/>
              <a:ext cx="404280" cy="81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4" name="_s15415"/>
            <p:cNvSpPr/>
            <p:nvPr/>
          </p:nvSpPr>
          <p:spPr>
            <a:xfrm>
              <a:off x="4648320" y="161784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Total of 13 Stat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5416"/>
            <p:cNvSpPr/>
            <p:nvPr/>
          </p:nvSpPr>
          <p:spPr>
            <a:xfrm>
              <a:off x="6263280" y="284364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All of WV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5417"/>
            <p:cNvSpPr/>
            <p:nvPr/>
          </p:nvSpPr>
          <p:spPr>
            <a:xfrm>
              <a:off x="6263280" y="406980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¾ of P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5418"/>
            <p:cNvSpPr/>
            <p:nvPr/>
          </p:nvSpPr>
          <p:spPr>
            <a:xfrm>
              <a:off x="6263280" y="529560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East TN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Image:Appalachian region of United States.gif"/>
          <p:cNvPicPr/>
          <p:nvPr/>
        </p:nvPicPr>
        <p:blipFill>
          <a:blip r:embed="rId1"/>
          <a:stretch/>
        </p:blipFill>
        <p:spPr>
          <a:xfrm>
            <a:off x="457200" y="20304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Grammatical Structures 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ampling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nstandard irregular verb 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ple ne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ive d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position intru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uble mod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wed, know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n’t never, can’t har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ve done done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are you going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ght could, might should, used to couldn’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Grammatical Structures Cont.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Another helping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ject/verb agre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itive anymor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nfected plural nouns when nouns preceded by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 da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don’t want any desse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nymore I don’t car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ent after two gallon of milk &amp; came back with two loaf of br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oing to buy me a new dr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Phonological Structure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usive /r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usive /t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h/ Retention (occurs in front of pronoun i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al /t/ 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ger of /e/ &amp; /i/ (most common before /n/, /m/, &amp; /t/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stitution of final sounds in unstressed syll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sh = war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ercise = exertci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t’ll worsen is about all can be said for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ce = onc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n = ten, pin = p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day = Mond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 Features 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617840"/>
            <a:ext cx="8228880" cy="4494600"/>
            <a:chOff x="457200" y="1617840"/>
            <a:chExt cx="8228880" cy="4494600"/>
          </a:xfrm>
        </p:grpSpPr>
        <p:cxnSp>
          <p:nvCxnSpPr>
            <p:cNvPr id="141" name="_s5838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561640" y="242424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58383"/>
            <p:cNvCxnSpPr>
              <a:stCxn id="145" idx="0"/>
              <a:endCxn id="143" idx="2"/>
            </p:cNvCxnSpPr>
            <p:nvPr/>
          </p:nvCxnSpPr>
          <p:spPr>
            <a:xfrm flipV="1">
              <a:off x="4571280" y="341496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5838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681640" y="24246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58378"/>
            <p:cNvSpPr/>
            <p:nvPr/>
          </p:nvSpPr>
          <p:spPr>
            <a:xfrm>
              <a:off x="3337200" y="161784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Vocabular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58379"/>
            <p:cNvSpPr/>
            <p:nvPr/>
          </p:nvSpPr>
          <p:spPr>
            <a:xfrm>
              <a:off x="457200" y="43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Word Cho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58380"/>
            <p:cNvSpPr/>
            <p:nvPr/>
          </p:nvSpPr>
          <p:spPr>
            <a:xfrm>
              <a:off x="3337200" y="43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Morphologica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Featur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58381"/>
            <p:cNvSpPr/>
            <p:nvPr/>
          </p:nvSpPr>
          <p:spPr>
            <a:xfrm>
              <a:off x="6217560" y="43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Word Struc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ut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 Features Cont.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60240" y="1846440"/>
            <a:ext cx="3632400" cy="3281040"/>
            <a:chOff x="660240" y="1846440"/>
            <a:chExt cx="3632400" cy="3281040"/>
          </a:xfrm>
        </p:grpSpPr>
        <p:sp>
          <p:nvSpPr>
            <p:cNvPr id="150" name="_s65550"/>
            <p:cNvSpPr/>
            <p:nvPr/>
          </p:nvSpPr>
          <p:spPr>
            <a:xfrm flipH="1">
              <a:off x="1601280" y="4116240"/>
              <a:ext cx="436680" cy="25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65549"/>
            <p:cNvSpPr/>
            <p:nvPr/>
          </p:nvSpPr>
          <p:spPr>
            <a:xfrm>
              <a:off x="660240" y="4118040"/>
              <a:ext cx="1009800" cy="100944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Word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used 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verb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65548"/>
            <p:cNvSpPr/>
            <p:nvPr/>
          </p:nvSpPr>
          <p:spPr>
            <a:xfrm>
              <a:off x="2913120" y="4118040"/>
              <a:ext cx="43632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65547"/>
            <p:cNvSpPr/>
            <p:nvPr/>
          </p:nvSpPr>
          <p:spPr>
            <a:xfrm>
              <a:off x="3282840" y="4116240"/>
              <a:ext cx="1009800" cy="100980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lur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n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65546"/>
            <p:cNvSpPr/>
            <p:nvPr/>
          </p:nvSpPr>
          <p:spPr>
            <a:xfrm flipV="1">
              <a:off x="247644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65545"/>
            <p:cNvSpPr/>
            <p:nvPr/>
          </p:nvSpPr>
          <p:spPr>
            <a:xfrm>
              <a:off x="1971720" y="1846440"/>
              <a:ext cx="1009440" cy="100944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Specif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Voc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5544"/>
            <p:cNvSpPr/>
            <p:nvPr/>
          </p:nvSpPr>
          <p:spPr>
            <a:xfrm>
              <a:off x="1971720" y="3360600"/>
              <a:ext cx="1009440" cy="100980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or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ho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kon, hidy, mamaw/papaw, fixen, kyarn, polecat, wasp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erbs:  druther, yonder, dang, plumb, tee-to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rals:  deskus, youns, young’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:  morphological feature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-prefix on –ing participles is syntactically restricted to adverbial complements and progressives; found more extensively among older gen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–ly on adverb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thought you wanted them fleurs to live, but you’re a-killin’ ‘em”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iser i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here the Lilies Bloo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e explained it real simple; that’s job awful hard to 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6:05:59Z</dcterms:created>
  <dc:creator>Bill </dc:creator>
  <dc:description/>
  <dc:language>en-US</dc:language>
  <cp:lastModifiedBy>Faculty</cp:lastModifiedBy>
  <dcterms:modified xsi:type="dcterms:W3CDTF">2008-08-27T17:38:11Z</dcterms:modified>
  <cp:revision>3</cp:revision>
  <dc:subject/>
  <dc:title>Slide 1</dc:title>
</cp:coreProperties>
</file>